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12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030-E687-42C2-B4D1-EDD005E1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865-FDAC-4210-AB8B-F8DB13D9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A04-FF7C-4685-9BD7-523CD81E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6770-C497-4DBA-A4F6-21D5A485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D650-2FAE-4A24-A354-7367BE2A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211F-6F4C-4352-B27E-ADF35E53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15DC-774D-4F09-9DE7-E198075C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66AE-FB6A-46B5-9CE6-6ADFB321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2510-ADC8-49AB-871B-9462B1B0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42EF-933E-4BA9-8FDF-693E731E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3B97-0794-4DA7-82FD-617C9D63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FA3-D219-4B58-83C9-0C161607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5290-29D5-42CA-872D-FEE20096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3163-4F2B-40E6-A4BD-3C8D0B96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C4EE-81A2-40DB-98B1-4F7C50FF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5E85-3E1E-4226-AE03-BB736699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BE37-1877-41D2-B5FF-A82EA4E2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BDC-2F96-4429-BA9F-62093CD5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F3F-BE0E-4827-A81C-0A4B4032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C50-153C-4513-8DB4-75578FCF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67A-F383-445F-860D-87CD340C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40C-6965-4C30-AD80-5972BF5B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479-15ED-48D7-9693-7B87D2AC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1C02-F8F9-4D48-9C33-726BFBA6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59D4-BC1D-4D0D-82E6-D5BCDDA6D8EE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EDEE-2D5C-4F8A-A218-9DF685F59BD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7"/>
          <p:cNvSpPr txBox="1"/>
          <p:nvPr/>
        </p:nvSpPr>
        <p:spPr>
          <a:xfrm>
            <a:off x="900000" y="1989000"/>
            <a:ext cx="74869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f8f8f8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Здоровье и наркотики»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f8f8f8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415280" cy="649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684360" y="404640"/>
            <a:ext cx="30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113" name="WordArt 9"/>
          <p:cNvSpPr txBox="1"/>
          <p:nvPr/>
        </p:nvSpPr>
        <p:spPr>
          <a:xfrm>
            <a:off x="5867280" y="404640"/>
            <a:ext cx="23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Болез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pic>
        <p:nvPicPr>
          <p:cNvPr id="114" name="Picture 13" descr="J0282741"/>
          <p:cNvPicPr/>
          <p:nvPr/>
        </p:nvPicPr>
        <p:blipFill>
          <a:blip r:embed="rId1"/>
          <a:stretch/>
        </p:blipFill>
        <p:spPr>
          <a:xfrm>
            <a:off x="6588000" y="4076640"/>
            <a:ext cx="897120" cy="89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J0223734"/>
          <p:cNvPicPr/>
          <p:nvPr/>
        </p:nvPicPr>
        <p:blipFill>
          <a:blip r:embed="rId2"/>
          <a:stretch/>
        </p:blipFill>
        <p:spPr>
          <a:xfrm>
            <a:off x="1476360" y="5445000"/>
            <a:ext cx="1728720" cy="1036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J0223737"/>
          <p:cNvPicPr/>
          <p:nvPr/>
        </p:nvPicPr>
        <p:blipFill>
          <a:blip r:embed="rId3"/>
          <a:stretch/>
        </p:blipFill>
        <p:spPr>
          <a:xfrm>
            <a:off x="7380360" y="5229360"/>
            <a:ext cx="1371600" cy="1038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J0178108"/>
          <p:cNvPicPr/>
          <p:nvPr/>
        </p:nvPicPr>
        <p:blipFill>
          <a:blip r:embed="rId4"/>
          <a:stretch/>
        </p:blipFill>
        <p:spPr>
          <a:xfrm>
            <a:off x="468360" y="4508640"/>
            <a:ext cx="1019160" cy="115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12[1]"/>
          <p:cNvPicPr/>
          <p:nvPr/>
        </p:nvPicPr>
        <p:blipFill>
          <a:blip r:embed="rId5"/>
          <a:stretch/>
        </p:blipFill>
        <p:spPr>
          <a:xfrm>
            <a:off x="7885080" y="3716280"/>
            <a:ext cx="792360" cy="52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2" descr="J0236462"/>
          <p:cNvPicPr/>
          <p:nvPr/>
        </p:nvPicPr>
        <p:blipFill>
          <a:blip r:embed="rId6"/>
          <a:stretch/>
        </p:blipFill>
        <p:spPr>
          <a:xfrm>
            <a:off x="900000" y="30686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20" name="WordArt 24"/>
          <p:cNvSpPr txBox="1"/>
          <p:nvPr/>
        </p:nvSpPr>
        <p:spPr>
          <a:xfrm>
            <a:off x="2050920" y="2205000"/>
            <a:ext cx="511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Ассоци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2700000" y="3141720"/>
            <a:ext cx="934920" cy="1150920"/>
          </a:xfrm>
          <a:prstGeom prst="line">
            <a:avLst/>
          </a:prstGeom>
          <a:ln w="6048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5292720" y="3213000"/>
            <a:ext cx="1079640" cy="115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Freeform 29"/>
          <p:cNvSpPr/>
          <p:nvPr/>
        </p:nvSpPr>
        <p:spPr>
          <a:xfrm>
            <a:off x="4332240" y="3068640"/>
            <a:ext cx="347760" cy="3300480"/>
          </a:xfrm>
          <a:prstGeom prst="pie">
            <a:avLst/>
          </a:pr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4" name="Picture 30" descr="7[1]"/>
          <p:cNvPicPr/>
          <p:nvPr/>
        </p:nvPicPr>
        <p:blipFill>
          <a:blip r:embed="rId7"/>
          <a:stretch/>
        </p:blipFill>
        <p:spPr>
          <a:xfrm rot="5400000">
            <a:off x="2054160" y="1625400"/>
            <a:ext cx="952560" cy="238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1" descr="7[1]"/>
          <p:cNvPicPr/>
          <p:nvPr/>
        </p:nvPicPr>
        <p:blipFill>
          <a:blip r:embed="rId8"/>
          <a:stretch/>
        </p:blipFill>
        <p:spPr>
          <a:xfrm rot="5400000">
            <a:off x="6156000" y="1628640"/>
            <a:ext cx="115236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Здоров буду и денег добуду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Здоровье дороже денег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В здоровом теле - здоровый дух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Чистота - залог здоровья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Без болезни и здоровью не рад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Береги платье снову, а здоровье смолоду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971640" y="260280"/>
            <a:ext cx="7056360" cy="14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Пословицы и поговор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о 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Зависимость от наркотиков- болезн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324000" y="3500280"/>
            <a:ext cx="3311280" cy="2016360"/>
          </a:xfrm>
          <a:prstGeom prst="ellipse">
            <a:avLst/>
          </a:prstGeom>
          <a:solidFill>
            <a:srgbClr val="6699ff">
              <a:alpha val="41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Эйфор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и удовольствие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84360" y="1341360"/>
            <a:ext cx="3095640" cy="1150920"/>
          </a:xfrm>
          <a:prstGeom prst="rect">
            <a:avLst/>
          </a:prstGeom>
          <a:solidFill>
            <a:srgbClr val="6699ff">
              <a:alpha val="41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Сначал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1" name="Picture 6" descr="2"/>
          <p:cNvPicPr/>
          <p:nvPr/>
        </p:nvPicPr>
        <p:blipFill>
          <a:blip r:embed="rId1"/>
          <a:stretch/>
        </p:blipFill>
        <p:spPr>
          <a:xfrm rot="2868600">
            <a:off x="1204200" y="290808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2"/>
          <p:cNvPicPr/>
          <p:nvPr/>
        </p:nvPicPr>
        <p:blipFill>
          <a:blip r:embed="rId2"/>
          <a:stretch/>
        </p:blipFill>
        <p:spPr>
          <a:xfrm rot="19903200">
            <a:off x="3347640" y="349992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4140360" y="1197000"/>
            <a:ext cx="5003640" cy="4464000"/>
          </a:xfrm>
          <a:custGeom>
            <a:avLst/>
            <a:gdLst>
              <a:gd name="textAreaLeft" fmla="*/ 1142280 w 5003640"/>
              <a:gd name="textAreaRight" fmla="*/ 3861360 w 5003640"/>
              <a:gd name="textAreaTop" fmla="*/ 1018800 h 4464000"/>
              <a:gd name="textAreaBottom" fmla="*/ 344520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трашный удар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4" name="Picture 11" descr="60"/>
          <p:cNvPicPr/>
          <p:nvPr/>
        </p:nvPicPr>
        <p:blipFill>
          <a:blip r:embed="rId3"/>
          <a:stretch/>
        </p:blipFill>
        <p:spPr>
          <a:xfrm>
            <a:off x="6227640" y="3860640"/>
            <a:ext cx="1724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440" y="2205000"/>
            <a:ext cx="8062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крайнее истощение организма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значительная потеря массы тела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упадок физических сил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самая распространенная болезнь среди наркоманов - гепатит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СПИД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539640" y="476280"/>
            <a:ext cx="8353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оследствия употреблени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наркотиков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f8f8f8"/>
                </a:solidFill>
                <a:latin typeface="Georgia"/>
              </a:rPr>
              <a:t>У наркомана пропадают не только социальные рефлексы, но и инстинкт самосохранения и моральная устойчивость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Georgia"/>
              </a:rPr>
              <a:t>Появляется полное безразличие к окружению, умственное отупение и снижение интеллекта. Человек становится примитивно эгоистичен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539640" y="476280"/>
            <a:ext cx="784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оследствия употреблени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наркотиков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Статисти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Georgia"/>
              </a:rPr>
              <a:t>Из 1500 зарегистрированных наркоманов, которые умерли в 1997 году, больше 1000 скончались от передозировки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Georgia"/>
              </a:rPr>
              <a:t>За последний год количество ВИЧ-инфецированных увеличилось в ШЕСТЬ раз. 80% из числа вновь заразившихся составляют наркоманы.</a:t>
            </a: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4000" y="2205000"/>
            <a:ext cx="806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Неполноценные дети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Снижение генофонда и вымирание нации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А  это  – вопрос безопасности страны!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468360" y="404640"/>
            <a:ext cx="82818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то же ждет нашу страну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если не остановить эту бед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3" name="Picture 8" descr="J0234760"/>
          <p:cNvPicPr/>
          <p:nvPr/>
        </p:nvPicPr>
        <p:blipFill>
          <a:blip r:embed="rId1"/>
          <a:stretch/>
        </p:blipFill>
        <p:spPr>
          <a:xfrm>
            <a:off x="7667640" y="5300640"/>
            <a:ext cx="9907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Рисунок93"/>
          <p:cNvPicPr/>
          <p:nvPr/>
        </p:nvPicPr>
        <p:blipFill>
          <a:blip r:embed="rId1"/>
          <a:stretch/>
        </p:blipFill>
        <p:spPr>
          <a:xfrm>
            <a:off x="611280" y="5084640"/>
            <a:ext cx="798480" cy="1447920"/>
          </a:xfrm>
          <a:prstGeom prst="rect">
            <a:avLst/>
          </a:prstGeom>
          <a:ln w="0">
            <a:noFill/>
          </a:ln>
        </p:spPr>
      </p:pic>
      <p:sp>
        <p:nvSpPr>
          <p:cNvPr id="145" name="WordArt 8"/>
          <p:cNvSpPr txBox="1"/>
          <p:nvPr/>
        </p:nvSpPr>
        <p:spPr>
          <a:xfrm>
            <a:off x="1000080" y="1214280"/>
            <a:ext cx="7416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Здоровье - это не все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но все без здоровья - ничто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6:46:36Z</dcterms:created>
  <dc:creator>Dom</dc:creator>
  <dc:description/>
  <dc:language>en-US</dc:language>
  <cp:lastModifiedBy>inform_2</cp:lastModifiedBy>
  <dcterms:modified xsi:type="dcterms:W3CDTF">2010-04-06T04:38:51Z</dcterms:modified>
  <cp:revision>28</cp:revision>
  <dc:subject/>
  <dc:title>Слайд 1</dc:title>
</cp:coreProperties>
</file>