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EEF-54BC-46B7-A2D6-125F1D68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E7D-5638-42F6-A698-4075F73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C25-B460-4F9F-A1F4-0DA2205B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772-87E2-462D-B3B1-DC0C3896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30A9-7B7C-4A36-9AD7-765D8560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8B0-9161-4C27-9436-4F53686A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E32-68B5-4F20-A32F-ADC8BA81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6D3-04C0-4CDC-834E-74BAB116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4D81-ED4F-40E5-B5F3-BA649AE1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FE7A-EFF9-49ED-BAF1-2FD3B8D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E21-A8AB-4A98-AE2A-505AC17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7D0-446B-4E33-A758-0657474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C069-E5E7-4C6D-8CFC-2203C593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4B64-6690-4C7C-A5FD-43CEA6ED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CF72-F57D-4EF6-87CA-91574C1F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43BF-0C71-47A9-825E-07BFCCE7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B13F-5A3F-4A77-A453-C210EC4E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7CA-6FE9-44CC-B0A7-899A954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87A-CA39-4FBF-94A8-8799714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2B2-5FAE-401C-B001-BA67131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7C7-3B70-4DA6-9D53-25CA01F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2DD-58B6-4137-A1F9-EDFF1B73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B0C-E86C-41F7-932D-44C77B8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FFB-BAC3-4EEA-89E9-50F5DA6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1A2-9B89-4767-BA43-59AC984D2F2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ECCB-1EE1-4413-8194-83D382115B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mochka.kz/_media/bb6df157e9c74472139201a108283bc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285920" y="1214280"/>
            <a:ext cx="6481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урение и здоров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удущего 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060280"/>
            <a:ext cx="41097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амый большой вред курение наносит нерожденным детя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5l"/>
          <p:cNvPicPr/>
          <p:nvPr/>
        </p:nvPicPr>
        <p:blipFill>
          <a:blip r:embed="rId1"/>
          <a:stretch/>
        </p:blipFill>
        <p:spPr>
          <a:xfrm>
            <a:off x="4932360" y="2060640"/>
            <a:ext cx="3511440" cy="352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572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сь никотин, угарный газ, бенз/а/пирен и даже некоторые радиоактивные вещества из сигарет, попадая в организм беременной женщины, после первой же затяжки моментально проникают сквозь плаценту к ребенк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онцентрация всех этих веществ в организме плода гораздо выше, чем крови матер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1l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797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76720" y="18288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От никотина возникает спазм сосудов плаценты, и у ребенка возникает кислородное голодание. Ядовитые вещества действуют на все его нежные органы, мешают малышу нормально развиваться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(30 Kb)"/>
          <p:cNvPicPr/>
          <p:nvPr/>
        </p:nvPicPr>
        <p:blipFill>
          <a:blip r:embed="rId1"/>
          <a:stretch/>
        </p:blipFill>
        <p:spPr>
          <a:xfrm>
            <a:off x="539640" y="549360"/>
            <a:ext cx="2476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детей, рожденных курильщицами, появляются на свет с низким весом, часто болеют, развиваются медленнее, чем их сверстники, чаще умирают в дет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1174147079_7_9"/>
          <p:cNvPicPr/>
          <p:nvPr/>
        </p:nvPicPr>
        <p:blipFill>
          <a:blip r:embed="rId1"/>
          <a:stretch/>
        </p:blipFill>
        <p:spPr>
          <a:xfrm>
            <a:off x="611280" y="54936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12360" y="5086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860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Статистика показывает: курение (независимо от количества выкуриваемых сигарет) во время беременности увеличивает риск ее неблагоприятного завершения почти в 2 раза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6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621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24000" y="631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лось, что никотин плохо действует не только на физическое, но и на психическое состояние будущего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е ученые доказали, что для детей курящих матерей уже в раннем возрасте характерны невнимательность, импульсивность и бесполезная сверхактивность, даже уровень умственного развития у них ниже средн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Чаще всего развивается и так называемый </a:t>
            </a:r>
            <a:r>
              <a:rPr b="0" lang="ru-RU" sz="3100" spc="-1" strike="noStrike">
                <a:solidFill>
                  <a:srgbClr val="ffff00"/>
                </a:solidFill>
                <a:latin typeface="Times New Roman"/>
              </a:rPr>
              <a:t>синдром «непоседы Фила» 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— эти дети, как правило, агрессивны и склонны к обману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4l"/>
          <p:cNvPicPr/>
          <p:nvPr/>
        </p:nvPicPr>
        <p:blipFill>
          <a:blip r:embed="rId1"/>
          <a:stretch/>
        </p:blipFill>
        <p:spPr>
          <a:xfrm>
            <a:off x="539640" y="1916280"/>
            <a:ext cx="3656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Английские врачи пришли к выводу, что у детей, чьи матери курили во время беременности, на 40% повышается риск развития аутизма, психической болезни, при которой человек не может контрактовать с окружающей действительностью и ориентируется на мир собственных переживаний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852640"/>
            <a:ext cx="78595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о заболевание, состояние психики, когда человек отстранен от внешнего мира и погружен в себ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684360" y="765000"/>
            <a:ext cx="43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т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5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Человек часто сам себе злейший враг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(40 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55450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еные предположили, что во всем виновато недостаточное снабжение мозга зародыша кислородом. Кроме того, не исключено, что в никотин влияет на особые гены, отвечающие за психомоторные функ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ждународная группа исследователей из университета Эмори в Атланте (штат Джорджия) обнаружила связь между курением беременных и последующей склонностью детей к 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427280" y="1828800"/>
            <a:ext cx="4259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В 2003 году британские ученые выявили зависимость курения на раннем этапе беременности и рождением ребенка с расщелиной лиц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1115578166_01_168_2_s"/>
          <p:cNvPicPr/>
          <p:nvPr/>
        </p:nvPicPr>
        <p:blipFill>
          <a:blip r:embed="rId1"/>
          <a:stretch/>
        </p:blipFill>
        <p:spPr>
          <a:xfrm>
            <a:off x="468360" y="22176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97080" y="5351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692280"/>
            <a:ext cx="81536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68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ождённый порок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я, заключающийся в незаращении верхней челюсти и твёрдого нёба, в результате чего получается расщелина, соединяющая полости рта и 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116000" y="765000"/>
            <a:ext cx="4641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Picture 6" descr="волчья пасть"/>
          <p:cNvPicPr/>
          <p:nvPr/>
        </p:nvPicPr>
        <p:blipFill>
          <a:blip r:embed="rId1"/>
          <a:stretch/>
        </p:blipFill>
        <p:spPr>
          <a:xfrm>
            <a:off x="5576760" y="191628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4356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ячья губа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устаревшее название одного из пороков</a:t>
            </a:r>
            <a:r>
              <a:rPr b="0" lang="ru-RU" sz="31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развития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состоящего в несращении боковых частей верхней губы с её средней частью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755640" y="620640"/>
            <a:ext cx="5689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Picture 6" descr="заячья губа"/>
          <p:cNvPicPr/>
          <p:nvPr/>
        </p:nvPicPr>
        <p:blipFill>
          <a:blip r:embed="rId1"/>
          <a:stretch/>
        </p:blipFill>
        <p:spPr>
          <a:xfrm>
            <a:off x="539640" y="1844640"/>
            <a:ext cx="297036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95280" y="631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2% матерей, дети которых родились с дефектом лица, курили, будучи беременны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 некурящих матерей такие «неправильные» дети рождались в два раза реж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ериканские исследователи доказали, что у женщин, куривших во время беременности, риск косолапости среди таких детей выше на 34%. А если к тому же курение матери сочетается с наследственным фактором, то риск косолапости возрастает в 20 раз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ети женщин, куривших во время беременности, на треть чаще, чем все остальные, рискуют к 16 годам заполучить диабет или ожирени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У мальчиков, родившихся у курящих матерей, яички имеют меньшие размеры, а концентрация сперматозоидов в сперме в среднем на 20% ниже, чем у детей некуря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ни парадоксально, о вреде курения человечество узнало только в 50-х годах XX века, а до этого даже врачи были на сто процентов уверены, что табак абсолютно безвреде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ети матерей, куривших во время беременности, в несколько раз чаще сами начинают курить, чем дети, чьи матери во время беременности не кури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28800"/>
            <a:ext cx="418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Бросить курить еще до начала беременности — единственный способ родить здорового 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8l"/>
          <p:cNvPicPr/>
          <p:nvPr/>
        </p:nvPicPr>
        <p:blipFill>
          <a:blip r:embed="rId1"/>
          <a:stretch/>
        </p:blipFill>
        <p:spPr>
          <a:xfrm>
            <a:off x="611280" y="1916280"/>
            <a:ext cx="3870360" cy="3889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25080" y="6310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10"/>
          <p:cNvPicPr/>
          <p:nvPr/>
        </p:nvPicPr>
        <p:blipFill>
          <a:blip r:embed="rId2"/>
          <a:stretch/>
        </p:blipFill>
        <p:spPr>
          <a:xfrm>
            <a:off x="6516720" y="33336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 середине 1920-х годов молодое советское правительство выпустило агитационный плакат с предупреждением: «Курящие школьники учатся хуже некурящих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ишь в 1956 году выяснилось, что заядлые курильщики во много раз чаще некурящих болеют сердечно-сосудистыми и легочными заболеваниями, а также раком легких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56000" y="2204640"/>
            <a:ext cx="43308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ерименты на животных доказали, что звери от табака гибнут. Видимо, именно тогда возникло выражение: «Капля никотина убивает лошад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amel"/>
          <p:cNvPicPr/>
          <p:nvPr/>
        </p:nvPicPr>
        <p:blipFill>
          <a:blip r:embed="rId1"/>
          <a:stretch/>
        </p:blipFill>
        <p:spPr>
          <a:xfrm>
            <a:off x="611280" y="62064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284720" y="404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КОТИН УБИВАЕТ НЕ ТОЛЬКО ЛОША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76464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икотин - один из самых опасных ядов растительного происхо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олик погибает от 1/4 капли никотина, собака - от 1/2 капл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от 50 до 100 мг, или 2-3 кап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азалось, что от курения страдают не только легкие, бронхи и сердце, но и ухудшается работа желез внутренней секреции, нарушается пищеварение, портится характер и зубы, снижается поте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57:59Z</dcterms:created>
  <dc:creator>Долгорукова</dc:creator>
  <dc:description/>
  <dc:language>en-US</dc:language>
  <cp:lastModifiedBy>inform_2</cp:lastModifiedBy>
  <dcterms:modified xsi:type="dcterms:W3CDTF">2010-04-06T04:48:09Z</dcterms:modified>
  <cp:revision>23</cp:revision>
  <dc:subject/>
  <dc:title>Слайд 1</dc:title>
</cp:coreProperties>
</file>