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7.wmf" ContentType="image/x-wmf"/>
  <Override PartName="/ppt/media/image9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13.png" ContentType="image/png"/>
  <Override PartName="/ppt/media/image33.wmf" ContentType="image/x-wmf"/>
  <Override PartName="/ppt/media/image37.gif" ContentType="image/gif"/>
  <Override PartName="/ppt/media/image25.wmf" ContentType="image/x-wmf"/>
  <Override PartName="/ppt/media/image34.wmf" ContentType="image/x-wmf"/>
  <Override PartName="/ppt/media/image14.png" ContentType="image/png"/>
  <Override PartName="/ppt/media/image7.png" ContentType="image/png"/>
  <Override PartName="/ppt/media/image15.wmf" ContentType="image/x-wmf"/>
  <Override PartName="/ppt/media/image10.png" ContentType="image/png"/>
  <Override PartName="/ppt/media/image1.jpeg" ContentType="image/jpeg"/>
  <Override PartName="/ppt/media/image12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6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16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6970-8241-4698-B289-12054979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5CF-E41C-4884-8007-95F4786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0B4C8-B94A-4809-A152-8324C56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767FB-1C52-498A-8172-01766722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8CFA1-39B6-47BD-B007-EA91129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95BB8-C73A-423B-BE1C-11A516D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97626-7A81-4975-BBF8-604B4B3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F4CE2-DC7E-475D-AEC6-519C2A3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7B8DD-C8C9-4C2F-B5B1-FC0AE629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293D2-24D6-416B-A956-736B1909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15F5-4D56-41D3-8C16-BAF1EE72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F0CC8-6DF6-496E-9535-1BBFA548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B67-B832-42A7-8969-B9D69748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2D79B-04DD-4BD8-A8F1-1F8AE2F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44836-1F5E-4EB6-84A4-07B1F528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3BDD8-532D-4CBE-A8A8-BC181CE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34811-A252-4E8C-B142-86F7B0B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1A257-1C2D-415F-BFFB-9EA6915A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C9ABE-033B-4440-BDCA-99D3F03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0C1D0-AFA7-4E5D-97F3-57EEF6B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0BE2C-1E51-41B8-B6F1-FB76452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A4B88-2930-44D8-9CD3-77E80B13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629EA-884E-4682-91EA-B69FA6E1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C57-42AE-4463-BEEA-61FEB940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D45F-E14C-4BBF-9DDA-9D646E0D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B1250-6F01-46DB-89A9-DCF63FC2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6CDDE-0FA1-4970-94D0-EEA03295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91A97-204B-4C07-B2A1-F46AD7CC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4A38F-1AD2-44A4-9BEA-6A2942BB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5DCE3-7B88-49E7-AE52-2EB062C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3B664-E004-4DAB-A3C1-8BBA2361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230B7-3127-4AEB-812C-335B1A0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D5336-4B9E-4437-97FC-EF858A18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1CD4E-FA8E-4E43-A390-6A44C9D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5D3C-704C-44FF-A75C-B7202D7A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956BA-BA5B-4CDA-ACC9-29BBE5D7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03508-A84F-45FB-AC5B-464E8BBD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DE648-3792-4E06-9340-E4E3AF77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8D33C-68DD-401C-9576-218DB376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51487-FA6D-4A06-96E4-4118BCA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E845E-33B5-4FCB-ACF0-F90EA7F6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83452-A712-42EC-AD49-A97EAFD5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4890B-D575-4653-873C-0808978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6CFF3-71BD-41BE-9F53-F76A6F6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DF936-017C-4C40-99F3-6B5ED7D6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1BCE-9D98-40C5-8AAD-DAF7A357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33D49-E91A-4217-9D12-2F72B3D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56D6A-0C61-40DF-8D59-B47D1E99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85BF5-2BB5-480C-AA53-994E052D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57579-7875-42C6-BB54-F5D819BF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8F286-1975-40C2-9C79-8CE48EF5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BE106-B9BF-416E-A255-32B20800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48D71-34FA-4AB1-8676-121579B8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CBC6D-FEBC-4235-B8D6-3B057AF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08EE1-B5CD-4D5C-88C3-29292A8E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511AC-7F73-4C56-8CB3-DDD2388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B31D-E471-4245-9785-41A447B2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9CB25-E275-4657-A1CD-E6F79D92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DE5A7-C6C0-482C-B233-8205043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7BB2A-2F5E-4545-815D-420C11D6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52711-62AF-4CEC-B8A8-C598393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C04D5-B138-469D-BDB7-11D3394D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59C32-3BC0-473B-A504-0D0D48B8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54B69-084E-4B24-BCC6-86C21F40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D4CB1-662A-4B74-8302-2FAA923A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B5D5D-EF54-49AA-81FA-D957EB50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886E2-E6EF-41C0-B01E-8DE12D8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8055-BA80-4180-AC97-58742EA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8A917-B0AE-423B-94E4-6934047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46AEE-0036-4280-BC3F-58E5172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74594-F724-4214-94C0-3342B5F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6C1861-E2F1-4792-B8C2-DC19BFCD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04A6A-630D-46B5-A7BE-53DCC6F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AB7AA-56A7-490F-B6C2-E2B42B5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2A41E-1A36-4170-8786-9792169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22D4B-D90D-4965-9776-67D091E9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4CAF7-613F-4011-96E6-7D30B3FF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7A681-F0E2-4DE9-95D5-F356593E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43D2-B3F1-46F3-B777-67F60809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9CEC7-09C4-4CF5-ABFB-92C9B281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E9A82-1716-49BF-AAF4-40EB066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8F265-E740-4009-9B47-72E7F061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90F68-4B51-49CB-A3D4-E6A1D885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E587F-677D-4E65-AC20-ADAAC675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4286C-D22A-482E-AB8B-B8FAA7E4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FFAB9-E659-4D1E-B47C-3EB8F77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FA18B-7FF2-4A67-AC83-53E8DA9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9208A-A436-48DE-B1A5-7BDC0BE7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254BE-5A20-465B-80B5-9C4EACFD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676-25FB-4A97-92D4-C9C7EC53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5FDE7-9184-40ED-A6B8-AEC6915B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47423-50F8-4F5F-8EC4-5C84C050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B0BB0-A105-4E91-AE70-64F8C36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0AF22-50B0-4D48-A830-9EFE16E6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50836-E8AD-4FAC-84C9-617039E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1A5CF-920B-44BF-A657-6019BD3D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D7576-8EDD-4429-81AF-A82C3761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EC2F3-DE2C-44A5-9CD6-5E6DC95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FCEF3-AF44-4F1E-A8EB-BDAF361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1CBB3-6D16-41DE-BE4B-87D1292D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24F-115F-4E2D-91DE-300D439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AF532-7F38-400B-8D72-7F42C5C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45E7F6-2D5A-4B0B-A18D-24BEE3A0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1018C-07BB-4800-B9C4-6447CBAD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49B92-6FFC-4A10-AC95-3852B991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5F884-2423-4F25-B510-30FE2CB5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84814E-DE89-4771-9A52-FB7233A3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1633D-4785-4A3C-B82F-6BA52C59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3918E-1331-4421-AC1F-BC1A5BF8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7927D-717C-4305-A0FD-3CD0191D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F2F3AF-AC9B-4116-80FD-C09128B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FD7-4C6C-4D4C-84C8-FD9666E4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B28-F0DC-4540-85EB-C2F8376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431670-AC81-4229-A308-0C4180FB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DEF93-31DF-4D03-8AB0-2298DA46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46D07F-4B34-4252-AFD5-5F95577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BB678-DE94-4F1E-B3A4-F658CE2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B6A69-46F4-40B3-8481-86F8C421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D8C30-7046-4163-BAB6-61CCF343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8EB34-9295-4EBF-82EC-3916D94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22025-5520-49F8-B421-DA22A9CC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F32AB-76C8-41FA-A8CE-DC7A1C93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B94A6-F1E0-4380-A03A-8BC0269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C685-4306-4098-8EA6-673A023D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48B6C-2287-453E-9445-CE308B4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EC01FD-93B8-4399-8A32-25564AC1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7F9B20-50D4-4C95-9776-4BC2C955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38E3B-9F0A-4BD8-8B47-99FFCC4D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39562-CBB6-4F47-A872-9C742EF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F60AD-A546-46C2-9D20-23493C1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7DEB4-A417-44EB-971F-C870D178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5D745D-8F63-42F4-92AD-C4B687F0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6CC10-D077-43DA-8450-29026BBF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2A492-A96E-4FAF-84FB-3BCF2DF1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A5A-1943-4AD1-BD03-D33E78E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D3AE8C-FCA4-4A38-990E-E9F7AE9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B35BF1-9D5E-4559-B948-4DD775CD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C12D97-2365-4950-A7F9-50F2B5E1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DAC3B-6BF7-42A5-81C2-153055A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E13A74-0514-476E-A148-08BF3D9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13BCD-0884-4130-8B2D-F7FE0BD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6C63C-B692-41BF-9567-9594812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7234A-D80B-4975-8597-7BAB664F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C558F-8434-40DD-A825-F21A309B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61C47-EF58-45DF-BBB9-86A0F990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0B83-1F1E-4CBE-BF25-23F79D02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6DDFF-1232-4985-88FA-5480BA40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03928-85E9-4139-92F4-75D56C6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E26FB9-75A6-461B-A4F1-6191A82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AA42A2-3A09-4082-B920-F4A883A6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2EB536-33BE-4DAB-967D-F14C665B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66142-E9AD-4D6F-88E8-4824AED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AE31E-EE59-4E18-9EE1-614DF9A1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99FC6-B792-41AD-AE51-B253D839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6E2AA-11A0-4B8F-A6A5-AE0F0965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791A0-846E-40E8-BC48-1F935CFA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8972-0AF0-4C2F-90B3-A198C64E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E3BDA7-C75A-4C44-9628-A2860095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B61E8-F3DC-43C2-ACF9-E71743D6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A54253-7F4F-46DF-8E8E-8E88F405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48BE8-2CE1-4F7E-909F-9814177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DF4D70-042C-4B7C-9C59-3526D06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B1553-A06D-4AD5-839A-C2D5579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A81A6-2A5F-40DB-85A8-214A542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C082F-48C6-4F04-8F61-8CF4524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22DA9-E636-4B6F-9D2F-A0E79D84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18A6C-4B55-4E22-B50A-506AE6EB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A71DE-CCB1-4E3F-BDE3-147CDFD4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AC574-D31B-4170-A2A9-B49A114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97BA38-D6E4-4B87-A5BC-E968C06A0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18B19-88D5-4569-9DE5-8B27B5B80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F1FE74-FFDA-4A51-BB31-C5B42EC4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0913C-88B5-4290-BFE6-8750820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B9B82B-F582-4ACE-9C52-BC654084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E100C4-8CCD-4676-B650-134A8D79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E3255-A3DC-49C6-8001-15964B74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6AA8C7-B870-4782-A08F-BDCD9E5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4363D2-E68B-49AF-A2C7-9437808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4A20D-02F7-4310-926F-0EF6EF28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DD5AF5-6032-4526-BB47-03FB2780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E74E9E-AB6B-4EAE-8FF7-F6F742FA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EDAEE5-722B-4E32-9127-BA23F381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7FC37C-3651-41B3-98E2-F51B600D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49B87-3D62-4DB9-BB5F-91C37D12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CBEC0-2402-4964-815E-D526519F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5CA1A4-F5DB-42E8-9276-98332E4C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21A045-3A39-4223-9566-CB0A9AC1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4B5BCA-7A1A-4603-91DB-8AFB8157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505A0-32A6-46E0-BFE5-3AC408FA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336F-ED24-48F6-8CF5-F8EF0B82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F534E2-B465-476F-AF04-F4DCA853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0CDCB-77C7-4AEB-96A9-07A94CA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885E6-8EFE-494F-8A5B-F555260C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5CAC89-9986-4D40-959A-C559E0D3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C4C61-A76A-4A1A-90F4-125B0E87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15AAE-230B-4713-8A39-56A05904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5B401A-DFCF-4372-A64A-CAA7F90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5EDE0-BB15-42D7-ABAD-34118CB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0313E-6220-43CA-8849-AD7DEAAC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E05955-DC9D-40F5-ADF4-6F46AA76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76615-5592-4AE2-8D66-9DAC8CCE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31F3D-D00F-4028-BDD3-64966D1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3E39AC-9EE9-482D-AD45-895CDA8B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80DB50-0ED1-45DF-A0FE-73C480D3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7ADE65-ADFB-4AED-AFB0-34991F9E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3A824-B252-400D-9A4D-807675FB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E12FF7-A0DC-4101-A863-C0C477D3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B3F091-4640-41D2-9F6A-4F1E1B06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35BF7-8540-4F2C-B8D1-D29565A5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D341A2-6380-430A-8B90-926A69B9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DA65E5-FDC1-40BE-9303-CEDCBD7C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582D-1AE1-4CA3-827B-5CB3AB0B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193AFF-88F0-4908-BE51-205F9D5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E0E3CFF-2F72-488B-9AC9-7939E005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3998E2-A229-4411-98F0-D9F9466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7244FE-B3CD-4CC7-B63E-A00B659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EF4516-A15C-4651-A3EB-283E4803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3176AB-DF1D-4737-BC61-FD4E7B3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9F8AEDD-3F5D-488F-8FFD-264E10F5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1CDC33B-84D3-48DB-BD04-3084140C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35021B2-9DC6-4ABA-A7D6-4A18D004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429A4C5-A06F-4930-A386-E5A3EB8E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36B-6184-403D-8335-5E008AD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0D6BC-608B-4ED2-A168-E371738D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7DCCAC3-7F99-4AE6-97F9-F525F48A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BA6306-971E-4AE5-B9F0-F61D0A7A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8066BA-2B05-4747-AD8B-2F828ED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8CDFE6-CE49-47B5-8FC8-216A0EBF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C60410-99DF-456E-9000-D78531C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E9E3F9-78EB-49AC-8773-8B0368B7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7609AE-4AC7-481D-BF3E-DDAE7F0E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74967-7E71-4262-BEA9-B501FC6A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CD5763-985E-4053-8067-8694A1FB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61F681-42C6-4B74-A1A1-0B0C69A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7FA3-B538-4D91-9A1F-4C6753A6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57DD8-B7BE-47C6-BBB8-33ADD08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295896-EA90-4A38-8839-F0DC0972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6D7A59-6C52-4FCC-BB0E-E69FF018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D10953-2F66-426F-8AD9-88BC3266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ECB81C-AB24-4C58-BBEE-6F97B94F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7A5D44-92D9-4B0A-ACE2-218EC4EA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434DF7-C5A2-4457-B524-A034C9B5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FA47B2-5B7E-4FC0-A2EE-4D0E30FB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4FBB2C-8CEA-4F73-989E-0F490BEC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30C37E-8C8A-467B-A338-14CC80F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170BA-F71D-4BDF-BE72-E82A84B5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3CAACC-1E28-4426-8A66-AED7559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B29C3-31C5-47B3-8C27-A31BCEF2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932398-42F2-4738-A1D2-118E65D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099F2F-BDDA-4B6A-8F4E-E165E173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858053-9AD6-4151-BF99-454F4E77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5BAC16-34B8-4715-88C1-DEF46CC2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6FC728-B514-4A15-9D89-5249773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762785-BDF9-4379-9FF8-7C44F7B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3F25C7-8541-4F1B-B3FC-5AEA600E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9862DA-A9DA-4D40-8C2C-BF55440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5962-30FF-4FCE-8E53-E9DDA184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10D4FF-DA07-4A10-8A9B-CA038DD0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106C70-B4AD-4E0D-A654-804DBC22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D65923-8D81-4F59-A2E1-172FA5ED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3B5A2-C217-4A5A-BC18-517E5E6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7C0F18-3F55-4EAE-8423-5D302C0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0CCD41-CD15-4A77-AA1A-6EC14010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7C0235-1C33-4459-9471-ABEDEF6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EE353-F83D-4A94-BC45-EB48662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99E3-2EE3-4D03-B6C7-436DDD35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9FE7-2B2D-481C-A11A-394C9B7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98D45-13E6-42A9-AA03-7605A7E0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8A9C-C131-4698-871D-06A859B6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88216-BB82-4482-B7E4-852B05C4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6E6-5B74-4D72-805B-B49F7E16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5C920-13BA-4A1D-8B35-844FB17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6A3BD-A44A-438B-8772-E66301E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632B-CAE6-4D88-B59B-29D27292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8F2CE-7C10-4251-B28F-31E67F7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901C-3044-408F-A5C8-1392FFD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FB37B-0949-4EF2-B282-FE608A25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D42A-ED30-40C3-9CED-CD403C9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1788-60DE-4068-999E-D8D40A55E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8BB70-2AE1-4FC3-AA57-8E5C74B0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B428-1F78-4BEB-BE80-D3CB12C7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E76-9115-44FE-8677-7D79FABC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FDA0-61A1-4D1B-9D19-F5D4E94F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8730B-EA8D-4D20-9850-97FD4306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B25D0-E343-43C6-A76F-DE6F8EF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1FB3-4175-4181-981C-87AAC118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24317-167A-4DBE-91E6-8B405E6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A636A-85F6-497B-9A76-5D316C8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9BAF8-07BA-4357-821B-6671A6B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7F34B-5D64-40AD-B41C-558F279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2A703-ECA5-4CEE-8A79-C91D1A8B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7A775-2110-448A-9791-98ADF9BA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22E-37AB-496F-B42B-C144D7CF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DED14-F970-48AE-BFAC-DF3CCED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3206-11BD-47D3-8453-FD30A688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FD0F-A13F-4B97-9A2C-7D30EAA4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1EA5-99AC-4412-987C-C21BD49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E778-A01C-474B-B7D1-E66B1DD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27A8D-16D9-47B0-B046-AFAE0627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66713-1907-47DE-8A6D-3BDD36F4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336E1-EE7C-4A22-9052-EFFC8C02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A92B-4F4C-4811-928E-6A43E6FD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F2BD-7C77-4C59-9CAE-8AF9B21A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D79-43F2-4703-B664-33266E0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26876-D8FA-46E5-968B-E468DD4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85A2-505A-4315-B3DF-BDAF900C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CA85E-40B1-4F85-B427-CB250CA0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2FA8-0522-44BA-BD73-51FED59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9C62B-C31C-4684-B31F-D7E7C468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E07A-523E-442D-B878-F65CEC4E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623A-AA73-49BC-984E-486727C1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1D82-83E7-4333-9898-CDEEAD52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B1E97-6D54-4D4E-9C70-4BCCE43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9DF1E-1883-499D-8230-DECE5F3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C3B-4052-476B-889B-FFD0ABB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CD92-5401-4521-8D87-4C5C432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7CBF-1408-4F53-B5B9-E1D77DA3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BF03-6E77-4C2F-9D61-1F2E3196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3D1A-A355-4ABC-8887-7324D3B7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92A32-40D9-42CE-ADEA-1BB07997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560EB-F024-4F7F-AE01-9CD6EE29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03F37-00C9-470E-8E78-003E2E22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A95EC-D360-426E-B2B0-F07EE49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B096A-63BB-4E89-9C5A-ACC12F41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024F9-E289-42E3-BAAF-CF75523A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C32-041F-4099-9B5A-C02EE66C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4B88-485E-4C6F-900A-9CF6ABA3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29E71-0F80-41A2-90F9-3656EA13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4CEEA-3E5A-448C-963A-73727549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7F7C6-3997-46BB-A319-75E30B3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5CF91-C807-42DE-97FF-3E34B533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7340-FBBF-459E-8575-222984E8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35EFF-92E0-48D9-814D-3EED06C0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66BC7-1502-41EE-8369-65566A52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34ED6-A36B-4F76-9151-B1C74F22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286A5-C9D7-43D7-830A-206BA4B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93.xml"/><Relationship Id="rId35" Type="http://schemas.openxmlformats.org/officeDocument/2006/relationships/slideLayout" Target="../slideLayouts/slideLayout194.xml"/><Relationship Id="rId36" Type="http://schemas.openxmlformats.org/officeDocument/2006/relationships/slideLayout" Target="../slideLayouts/slideLayout195.xml"/><Relationship Id="rId37" Type="http://schemas.openxmlformats.org/officeDocument/2006/relationships/slideLayout" Target="../slideLayouts/slideLayout196.xml"/><Relationship Id="rId38" Type="http://schemas.openxmlformats.org/officeDocument/2006/relationships/slideLayout" Target="../slideLayouts/slideLayout197.xml"/><Relationship Id="rId39" Type="http://schemas.openxmlformats.org/officeDocument/2006/relationships/slideLayout" Target="../slideLayouts/slideLayout198.xml"/><Relationship Id="rId40" Type="http://schemas.openxmlformats.org/officeDocument/2006/relationships/slideLayout" Target="../slideLayouts/slideLayout199.xml"/><Relationship Id="rId41" Type="http://schemas.openxmlformats.org/officeDocument/2006/relationships/slideLayout" Target="../slideLayouts/slideLayout200.xml"/><Relationship Id="rId42" Type="http://schemas.openxmlformats.org/officeDocument/2006/relationships/slideLayout" Target="../slideLayouts/slideLayout201.xml"/><Relationship Id="rId43" Type="http://schemas.openxmlformats.org/officeDocument/2006/relationships/slideLayout" Target="../slideLayouts/slideLayout202.xml"/><Relationship Id="rId44" Type="http://schemas.openxmlformats.org/officeDocument/2006/relationships/slideLayout" Target="../slideLayouts/slideLayout203.xml"/><Relationship Id="rId4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205.xml"/><Relationship Id="rId32" Type="http://schemas.openxmlformats.org/officeDocument/2006/relationships/slideLayout" Target="../slideLayouts/slideLayout206.xml"/><Relationship Id="rId33" Type="http://schemas.openxmlformats.org/officeDocument/2006/relationships/slideLayout" Target="../slideLayouts/slideLayout207.xml"/><Relationship Id="rId34" Type="http://schemas.openxmlformats.org/officeDocument/2006/relationships/slideLayout" Target="../slideLayouts/slideLayout208.xml"/><Relationship Id="rId35" Type="http://schemas.openxmlformats.org/officeDocument/2006/relationships/slideLayout" Target="../slideLayouts/slideLayout209.xml"/><Relationship Id="rId36" Type="http://schemas.openxmlformats.org/officeDocument/2006/relationships/slideLayout" Target="../slideLayouts/slideLayout210.xml"/><Relationship Id="rId37" Type="http://schemas.openxmlformats.org/officeDocument/2006/relationships/slideLayout" Target="../slideLayouts/slideLayout211.xml"/><Relationship Id="rId38" Type="http://schemas.openxmlformats.org/officeDocument/2006/relationships/slideLayout" Target="../slideLayouts/slideLayout212.xml"/><Relationship Id="rId39" Type="http://schemas.openxmlformats.org/officeDocument/2006/relationships/slideLayout" Target="../slideLayouts/slideLayout213.xml"/><Relationship Id="rId40" Type="http://schemas.openxmlformats.org/officeDocument/2006/relationships/slideLayout" Target="../slideLayouts/slideLayout214.xml"/><Relationship Id="rId41" Type="http://schemas.openxmlformats.org/officeDocument/2006/relationships/slideLayout" Target="../slideLayouts/slideLayout215.xml"/><Relationship Id="rId42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A79C-C448-435B-91DB-6C8E8AB912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7A7-4ECE-4A05-9DBF-88D5E765E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22F-07FB-4314-B1C6-E76DEE18A49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sldNum" idx="3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1C0C-DE4A-4ED1-AF84-1F24763848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5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5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6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0848-4770-4564-B0A5-F94813E8C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04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04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5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d1d1d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bdbdbd"/>
                  </a:gs>
                  <a:gs pos="50000">
                    <a:srgbClr val="d1d1d1"/>
                  </a:gs>
                  <a:gs pos="100000">
                    <a:srgbClr val="bdbdb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dt" idx="4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D534-2C91-4D7A-8907-3B20D852F7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7200e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A2C-AD1C-4F27-ABCB-96D5371F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9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47474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50000">
                  <a:srgbClr val="669900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66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C22C-9C9C-4691-865A-1AC0E627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5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35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35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36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6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7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7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9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 type="dt" idx="4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 type="ftr" idx="5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 type="sldNum" idx="5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18C-4E2F-4603-81E1-A8C7969484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4"/>
    <p:sldLayoutId id="2147483858" r:id="rId35"/>
    <p:sldLayoutId id="2147483859" r:id="rId36"/>
    <p:sldLayoutId id="2147483860" r:id="rId37"/>
    <p:sldLayoutId id="2147483861" r:id="rId38"/>
    <p:sldLayoutId id="2147483862" r:id="rId39"/>
    <p:sldLayoutId id="2147483863" r:id="rId40"/>
    <p:sldLayoutId id="2147483864" r:id="rId41"/>
    <p:sldLayoutId id="2147483865" r:id="rId42"/>
    <p:sldLayoutId id="2147483866" r:id="rId43"/>
    <p:sldLayoutId id="2147483867" r:id="rId44"/>
    <p:sldLayoutId id="2147483868" r:id="rId4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4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d1d1d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cc7d7"/>
                </a:gs>
                <a:gs pos="50000">
                  <a:srgbClr val="ccecff"/>
                </a:gs>
                <a:gs pos="100000">
                  <a:srgbClr val="acc7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5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4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7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47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9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7200e4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003399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66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dt" idx="5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ftr" idx="5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sldNum" idx="5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BCE3-BF7F-4E8E-966C-4400D93272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1"/>
    <p:sldLayoutId id="2147483871" r:id="rId32"/>
    <p:sldLayoutId id="2147483872" r:id="rId33"/>
    <p:sldLayoutId id="2147483873" r:id="rId34"/>
    <p:sldLayoutId id="2147483874" r:id="rId35"/>
    <p:sldLayoutId id="2147483875" r:id="rId36"/>
    <p:sldLayoutId id="2147483876" r:id="rId37"/>
    <p:sldLayoutId id="2147483877" r:id="rId38"/>
    <p:sldLayoutId id="2147483878" r:id="rId39"/>
    <p:sldLayoutId id="2147483879" r:id="rId40"/>
    <p:sldLayoutId id="2147483880" r:id="rId41"/>
    <p:sldLayoutId id="2147483881" r:id="rId42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0332-432F-4E48-B062-39E7550023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2b2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b2b2"/>
                        </a:solidFill>
                        <a:ln w="936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2b2b2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2b2b2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bdbdb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4662-B4E0-4543-8BC2-A17E823C13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200e4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0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fefbf"/>
                </a:gs>
                <a:gs pos="50000">
                  <a:srgbClr val="ffffcc"/>
                </a:gs>
                <a:gs pos="100000">
                  <a:srgbClr val="efefb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8640-E18C-41CA-8449-F144EC503D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88FB-66A5-4AB8-947A-E37158508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0166-9277-4D50-88D3-BEB9F0DC6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3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7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2BC8-AD0F-4AEB-ACEB-6E6E72BB6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1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477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88e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029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39cc"/>
                </a:gs>
                <a:gs pos="100000">
                  <a:srgbClr val="ff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a1b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21bd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1bdc5"/>
                </a:gs>
                <a:gs pos="100000">
                  <a:srgbClr val="157d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1238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3ece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5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821a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45cf"/>
                </a:gs>
                <a:gs pos="100000">
                  <a:srgbClr val="ff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7d82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68388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21bd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a12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a1e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7b186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d72ba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9949a"/>
                </a:gs>
                <a:gs pos="100000">
                  <a:srgbClr val="21bd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921d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b824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33cc"/>
                </a:gs>
                <a:gs pos="100000">
                  <a:srgbClr val="c828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85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b8249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45cf"/>
                  </a:gs>
                  <a:gs pos="100000">
                    <a:srgbClr val="ff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A054-8183-4B76-9C48-C0CA47119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89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06060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54545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D75-FDE9-4D4C-8246-D0947747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ftr" idx="7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7b18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15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5ce7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4c0f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70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a120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7b1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821a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9a1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a921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d029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df2c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d72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c828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17171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87878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aaaaa"/>
                </a:gs>
                <a:gs pos="100000">
                  <a:srgbClr val="d1d1d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921d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8a1b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b12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c026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e72e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6313"/>
                </a:gs>
                <a:gs pos="100000">
                  <a:srgbClr val="66ff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F96-E4E4-43F4-8FA3-E537D025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41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41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41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42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2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a4"/>
                    </a:gs>
                    <a:gs pos="100000">
                      <a:srgbClr val="0000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4e8ac"/>
                    </a:gs>
                    <a:gs pos="100000">
                      <a:srgbClr val="0000a4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2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3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3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43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43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4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8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8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4e8ac"/>
                    </a:gs>
                    <a:gs pos="100000">
                      <a:srgbClr val="8f5fd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f5fd5"/>
                    </a:gs>
                    <a:gs pos="100000">
                      <a:srgbClr val="0000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9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9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66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50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0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0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1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1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4e8a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2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4e8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8f5fd5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cc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0CAE-9318-486A-B3D3-BBA9037F5F8B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8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8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a4"/>
                  </a:gs>
                  <a:gs pos="100000">
                    <a:srgbClr val="0000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51b2e3"/>
                  </a:gs>
                  <a:gs pos="100000">
                    <a:srgbClr val="0000a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9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9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9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a4"/>
                      </a:gs>
                      <a:gs pos="100000">
                        <a:srgbClr val="0000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0000a4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9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60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60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60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61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1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5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5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5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4e8ac"/>
                      </a:gs>
                      <a:gs pos="100000">
                        <a:srgbClr val="8f5fd5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f5fd5"/>
                      </a:gs>
                      <a:gs pos="100000">
                        <a:srgbClr val="0000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6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6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6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7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7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8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8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8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8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9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4e8ac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9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4e8ac"/>
                        </a:gs>
                        <a:gs pos="100000">
                          <a:srgbClr val="8f5fd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f5fd5"/>
                        </a:gs>
                        <a:gs pos="100000">
                          <a:srgbClr val="0000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9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9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9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51b2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4e8a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8f5fd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4e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70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51b2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8f5fd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51b2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8f5f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4e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 Black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3DEA-669A-426E-8169-CBAD753BFCD9}" type="slidenum">
              <a:rPr b="0" lang="en-US" sz="1400" spc="-1" strike="noStrike">
                <a:solidFill>
                  <a:srgbClr val="cc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2D34-3320-4E16-959A-80598C92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E0F-0B8C-498E-9AB2-3E441773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8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8986-209C-4FF5-A26A-E31F6685F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7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DDCC-898D-4F1F-8F45-48EB9E29A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2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00e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619D-E897-4F57-93A1-E85BD1C0FD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0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8A46-3E30-4CC7-B85F-6A2DC9CC9B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97FF-AF36-4407-926C-8B0B1BC37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4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gif"/><Relationship Id="rId6" Type="http://schemas.openxmlformats.org/officeDocument/2006/relationships/image" Target="../media/image38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21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9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gi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А нужна ли на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2910960" y="1676160"/>
            <a:ext cx="34801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Семья</a:t>
            </a: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2" name="" descr=""/>
          <p:cNvPicPr/>
          <p:nvPr/>
        </p:nvPicPr>
        <p:blipFill>
          <a:blip r:embed="rId2"/>
          <a:stretch/>
        </p:blipFill>
        <p:spPr>
          <a:xfrm>
            <a:off x="3733920" y="41911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cc33"/>
                </a:solidFill>
                <a:latin typeface="Tahoma"/>
              </a:rPr>
              <a:t>А если у тебя есть семья</a:t>
            </a:r>
            <a:r>
              <a:rPr b="0" lang="en-US" sz="7200" spc="-1" strike="noStrike">
                <a:solidFill>
                  <a:srgbClr val="33cc33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f42ec"/>
                </a:solidFill>
                <a:latin typeface="Arial"/>
              </a:rPr>
              <a:t>Ты можешь добиться того же ,что и без семьи, но придя домой ты заметишь</a:t>
            </a:r>
            <a:r>
              <a:rPr b="0" lang="en-US" sz="5400" spc="-1" strike="noStrike">
                <a:solidFill>
                  <a:srgbClr val="7f42ec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1841760" cy="1654200"/>
          </a:xfrm>
          <a:prstGeom prst="rect">
            <a:avLst/>
          </a:prstGeom>
          <a:ln w="0">
            <a:noFill/>
          </a:ln>
        </p:spPr>
      </p:pic>
      <p:pic>
        <p:nvPicPr>
          <p:cNvPr id="2790" name="" descr=""/>
          <p:cNvPicPr/>
          <p:nvPr/>
        </p:nvPicPr>
        <p:blipFill>
          <a:blip r:embed="rId3"/>
          <a:stretch/>
        </p:blipFill>
        <p:spPr>
          <a:xfrm>
            <a:off x="3505320" y="380880"/>
            <a:ext cx="2119320" cy="2133720"/>
          </a:xfrm>
          <a:prstGeom prst="rect">
            <a:avLst/>
          </a:prstGeom>
          <a:ln w="0">
            <a:noFill/>
          </a:ln>
        </p:spPr>
      </p:pic>
      <p:pic>
        <p:nvPicPr>
          <p:cNvPr id="2791" name="" descr=""/>
          <p:cNvPicPr/>
          <p:nvPr/>
        </p:nvPicPr>
        <p:blipFill>
          <a:blip r:embed="rId4"/>
          <a:stretch/>
        </p:blipFill>
        <p:spPr>
          <a:xfrm>
            <a:off x="6705720" y="533520"/>
            <a:ext cx="1827000" cy="1827000"/>
          </a:xfrm>
          <a:prstGeom prst="rect">
            <a:avLst/>
          </a:prstGeom>
          <a:ln w="0">
            <a:noFill/>
          </a:ln>
        </p:spPr>
      </p:pic>
      <p:pic>
        <p:nvPicPr>
          <p:cNvPr id="2792" name="" descr=""/>
          <p:cNvPicPr/>
          <p:nvPr/>
        </p:nvPicPr>
        <p:blipFill>
          <a:blip r:embed="rId5"/>
          <a:stretch/>
        </p:blipFill>
        <p:spPr>
          <a:xfrm>
            <a:off x="685800" y="3505320"/>
            <a:ext cx="1979640" cy="2361960"/>
          </a:xfrm>
          <a:prstGeom prst="rect">
            <a:avLst/>
          </a:prstGeom>
          <a:ln w="0">
            <a:noFill/>
          </a:ln>
        </p:spPr>
      </p:pic>
      <p:pic>
        <p:nvPicPr>
          <p:cNvPr id="2793" name="" descr=""/>
          <p:cNvPicPr/>
          <p:nvPr/>
        </p:nvPicPr>
        <p:blipFill>
          <a:blip r:embed="rId6"/>
          <a:stretch/>
        </p:blipFill>
        <p:spPr>
          <a:xfrm>
            <a:off x="3505320" y="3886200"/>
            <a:ext cx="1814400" cy="1528920"/>
          </a:xfrm>
          <a:prstGeom prst="rect">
            <a:avLst/>
          </a:prstGeom>
          <a:ln w="0">
            <a:noFill/>
          </a:ln>
        </p:spPr>
      </p:pic>
      <p:pic>
        <p:nvPicPr>
          <p:cNvPr id="2794" name="" descr=""/>
          <p:cNvPicPr/>
          <p:nvPr/>
        </p:nvPicPr>
        <p:blipFill>
          <a:blip r:embed="rId7"/>
          <a:stretch/>
        </p:blipFill>
        <p:spPr>
          <a:xfrm>
            <a:off x="6400800" y="3733920"/>
            <a:ext cx="2209680" cy="181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921d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Arial"/>
              </a:rPr>
              <a:t>А еще у тебя могут быть дети</a:t>
            </a:r>
            <a:r>
              <a:rPr b="0" lang="en-US" sz="72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96" name="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1450800" cy="182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6600"/>
                </a:solidFill>
                <a:latin typeface="Arial"/>
              </a:rPr>
              <a:t>И ты поймешь ,что твоя жизнь прожита не зр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27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bb4eb"/>
                </a:solidFill>
                <a:latin typeface="Garamond"/>
              </a:rPr>
              <a:t>В любой момент тебе могут помочь!</a:t>
            </a:r>
            <a:endParaRPr b="1" lang="en-US" sz="6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 Black"/>
              </a:rPr>
              <a:t>Теперь ты можешь наслаждаться жизнью!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ff"/>
                </a:solidFill>
                <a:latin typeface="Arial Black"/>
              </a:rPr>
              <a:t>Семья – это ячейка общества. Создай свою и живи спокойно!</a:t>
            </a:r>
            <a:r>
              <a:rPr b="0" lang="en-US" sz="4000" spc="-1" strike="noStrike">
                <a:solidFill>
                  <a:srgbClr val="00ffff"/>
                </a:solidFill>
                <a:latin typeface="Arial Black"/>
              </a:rPr>
              <a:t>   </a:t>
            </a:r>
            <a:endParaRPr b="0" lang="en-US" sz="4000" spc="-1" strike="noStrike">
              <a:solidFill>
                <a:srgbClr val="00ffff"/>
              </a:solidFill>
              <a:latin typeface="Arial Black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700" spc="-1" strike="noStrike">
                <a:solidFill>
                  <a:srgbClr val="666699"/>
                </a:solidFill>
                <a:latin typeface="Arial Unicode MS"/>
              </a:rPr>
              <a:t>Что ты оставишь после себя</a:t>
            </a:r>
            <a:r>
              <a:rPr b="0" lang="en-US" sz="7700" spc="-1" strike="noStrike">
                <a:solidFill>
                  <a:srgbClr val="666699"/>
                </a:solidFill>
                <a:latin typeface="Arial Unicode MS"/>
              </a:rPr>
              <a:t>?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4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65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 rot="727200">
            <a:off x="1600200" y="9907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Разруху и ужас</a:t>
            </a:r>
            <a:r>
              <a:rPr b="0" lang="en-US" sz="6600" spc="-1" strike="noStrike">
                <a:solidFill>
                  <a:srgbClr val="666699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7" name="" descr=""/>
          <p:cNvPicPr/>
          <p:nvPr/>
        </p:nvPicPr>
        <p:blipFill>
          <a:blip r:embed="rId3"/>
          <a:stretch/>
        </p:blipFill>
        <p:spPr>
          <a:xfrm>
            <a:off x="5867280" y="4343400"/>
            <a:ext cx="1825920" cy="14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34417"/>
                </a:solidFill>
                <a:latin typeface="Arial"/>
              </a:rPr>
              <a:t>Или жизнь и процветание</a:t>
            </a:r>
            <a:r>
              <a:rPr b="0" lang="en-US" sz="4400" spc="-1" strike="noStrike">
                <a:solidFill>
                  <a:srgbClr val="d34417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1760760"/>
          </a:xfrm>
          <a:prstGeom prst="rect">
            <a:avLst/>
          </a:prstGeom>
          <a:ln w="0">
            <a:noFill/>
          </a:ln>
        </p:spPr>
      </p:pic>
      <p:pic>
        <p:nvPicPr>
          <p:cNvPr id="2770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2666880" cy="176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50000">
              <a:srgbClr val="666699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8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bbbbf"/>
                </a:solidFill>
                <a:latin typeface="Arial"/>
              </a:rPr>
              <a:t>Мы знаем ,что без семьи ты можешь стать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781280" cy="2209680"/>
          </a:xfrm>
          <a:prstGeom prst="rect">
            <a:avLst/>
          </a:prstGeom>
          <a:ln w="0">
            <a:noFill/>
          </a:ln>
        </p:spPr>
      </p:pic>
      <p:pic>
        <p:nvPicPr>
          <p:cNvPr id="2774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75" name="" descr=""/>
          <p:cNvPicPr/>
          <p:nvPr/>
        </p:nvPicPr>
        <p:blipFill>
          <a:blip r:embed="rId3"/>
          <a:stretch/>
        </p:blipFill>
        <p:spPr>
          <a:xfrm>
            <a:off x="6172200" y="685800"/>
            <a:ext cx="1889280" cy="1917720"/>
          </a:xfrm>
          <a:prstGeom prst="rect">
            <a:avLst/>
          </a:prstGeom>
          <a:ln w="0">
            <a:noFill/>
          </a:ln>
        </p:spPr>
      </p:pic>
      <p:pic>
        <p:nvPicPr>
          <p:cNvPr id="2776" name="" descr=""/>
          <p:cNvPicPr/>
          <p:nvPr/>
        </p:nvPicPr>
        <p:blipFill>
          <a:blip r:embed="rId4"/>
          <a:stretch/>
        </p:blipFill>
        <p:spPr>
          <a:xfrm>
            <a:off x="914400" y="3733920"/>
            <a:ext cx="1163520" cy="1827000"/>
          </a:xfrm>
          <a:prstGeom prst="rect">
            <a:avLst/>
          </a:prstGeom>
          <a:ln w="0">
            <a:noFill/>
          </a:ln>
        </p:spPr>
      </p:pic>
      <p:pic>
        <p:nvPicPr>
          <p:cNvPr id="2777" name="" descr=""/>
          <p:cNvPicPr/>
          <p:nvPr/>
        </p:nvPicPr>
        <p:blipFill>
          <a:blip r:embed="rId5"/>
          <a:stretch/>
        </p:blipFill>
        <p:spPr>
          <a:xfrm>
            <a:off x="3505320" y="914400"/>
            <a:ext cx="1904760" cy="1436760"/>
          </a:xfrm>
          <a:prstGeom prst="rect">
            <a:avLst/>
          </a:prstGeom>
          <a:ln w="0">
            <a:noFill/>
          </a:ln>
        </p:spPr>
      </p:pic>
      <p:pic>
        <p:nvPicPr>
          <p:cNvPr id="2778" name="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1807920" cy="191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151b8"/>
                </a:solidFill>
                <a:latin typeface="Arial"/>
              </a:rPr>
              <a:t>В общем очень успешным человеком!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d1d1"/>
            </a:gs>
            <a:gs pos="100000">
              <a:srgbClr val="66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Но кто будет ждать тебя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2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100000">
              <a:srgbClr val="6b6b6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210040" cy="1770120"/>
          </a:xfrm>
          <a:prstGeom prst="rect">
            <a:avLst/>
          </a:prstGeom>
          <a:ln w="0">
            <a:noFill/>
          </a:ln>
        </p:spPr>
      </p:pic>
      <p:pic>
        <p:nvPicPr>
          <p:cNvPr id="2782" name="" descr=""/>
          <p:cNvPicPr/>
          <p:nvPr/>
        </p:nvPicPr>
        <p:blipFill>
          <a:blip r:embed="rId2"/>
          <a:stretch/>
        </p:blipFill>
        <p:spPr>
          <a:xfrm>
            <a:off x="6705720" y="380988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2783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319120" cy="2260440"/>
          </a:xfrm>
          <a:prstGeom prst="rect">
            <a:avLst/>
          </a:prstGeom>
          <a:ln w="0">
            <a:noFill/>
          </a:ln>
        </p:spPr>
      </p:pic>
      <p:pic>
        <p:nvPicPr>
          <p:cNvPr id="2784" name="" descr=""/>
          <p:cNvPicPr/>
          <p:nvPr/>
        </p:nvPicPr>
        <p:blipFill>
          <a:blip r:embed="rId4"/>
          <a:stretch/>
        </p:blipFill>
        <p:spPr>
          <a:xfrm>
            <a:off x="6862680" y="46188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2785" name="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6"/>
          <a:stretch/>
        </p:blipFill>
        <p:spPr>
          <a:xfrm>
            <a:off x="4038480" y="3886200"/>
            <a:ext cx="1600200" cy="1808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арин</cp:lastModifiedBy>
  <dcterms:modified xsi:type="dcterms:W3CDTF">2008-11-18T07:46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