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3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7D2-A2F2-4C61-8476-8D33F363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AD1-B703-4EEA-B00E-4B28CD3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870-A100-40EE-A5E3-69FF3EBA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4EF-44C0-43EF-9DEA-AFABAFD3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32CB-FBE4-4FF5-83FC-4B477045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47FE-B1B4-4CA1-8F26-F6D4E0B4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6F4B-7E92-4CFA-868C-F90B3EFB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0F09-6B7E-46B7-BD56-4D3FEA01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C83-CB20-4016-B08B-5828002F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A054-9E58-4229-82BB-509CAEF6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7770-42F0-4109-974E-9D859A6A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C7C-58F7-40E9-A608-67F5309A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6BC7-1FDE-48B5-9E87-5C1C640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C121-A7BA-46E0-BC11-6A96BF4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295E-DB2A-4B2D-BCBE-DEACF122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C80F-DF13-4ABF-AEDF-ABE92E48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7ED-C835-4F69-9644-A19A22E6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6E5-0912-45F3-99B5-61750C7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65F-426A-4A7B-BFFD-84B27C62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82E-9D0F-4AD4-AC44-7E96CD58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B5C-3863-4552-AC5D-247C34CD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BF87-7B37-447A-A6CE-522B352D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218-F08C-41AF-9F18-514156D3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C6A-FDE7-43AD-A12A-A6D8336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62E4-8F5A-4394-B69A-1E7FAB3C320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0CFF-6910-4630-82B2-921A1ACD59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20840" y="853920"/>
            <a:ext cx="8399160" cy="2413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4" descr="semya11.jpg"/>
          <p:cNvPicPr/>
          <p:nvPr/>
        </p:nvPicPr>
        <p:blipFill>
          <a:blip r:embed="rId3"/>
          <a:stretch/>
        </p:blipFill>
        <p:spPr>
          <a:xfrm>
            <a:off x="476280" y="3067200"/>
            <a:ext cx="3906720" cy="29368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15 мая является самым важным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днем в нашей жизни 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62626"/>
                </a:solidFill>
                <a:latin typeface="Times New Roman"/>
              </a:rPr>
              <a:t>Международным Днем Семь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7072200" y="2786040"/>
            <a:ext cx="1857600" cy="20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cut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 появилось слово семь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огда-то о нем не слыхала 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Но Еве сказал перед свадьбой Ада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Сейчас я тебе 7 вопросов зад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Кто деток родит мне, богиня моя?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И Ева тихонько ответила: «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Кто платье сошьет, постирает бель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Меня приласкает, украсит жиль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Ответь на вопросы, подруга моя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«Я,Я,Я – Ева молвила, - 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8310b"/>
                </a:solidFill>
                <a:latin typeface="Times New Roman"/>
              </a:rPr>
              <a:t>Сказала она знаменитых 7 «Я»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3" descr="55166351.jpg"/>
          <p:cNvPicPr/>
          <p:nvPr/>
        </p:nvPicPr>
        <p:blipFill>
          <a:blip r:embed="rId2"/>
          <a:stretch/>
        </p:blipFill>
        <p:spPr>
          <a:xfrm>
            <a:off x="285840" y="4675320"/>
            <a:ext cx="2214360" cy="1611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Семья – это то, что с                                 тобою рядом всегд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И пусть стремительно       мчатся года, но дом родной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родные стены навсег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imes New Roman"/>
              </a:rPr>
              <a:t>останутся в твоем сердц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55296457.jpg"/>
          <p:cNvPicPr/>
          <p:nvPr/>
        </p:nvPicPr>
        <p:blipFill>
          <a:blip r:embed="rId1"/>
          <a:stretch/>
        </p:blipFill>
        <p:spPr>
          <a:xfrm>
            <a:off x="357120" y="1928880"/>
            <a:ext cx="2928960" cy="192888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5ef0f7"/>
                </a:solidFill>
                <a:latin typeface="Arial"/>
              </a:rPr>
              <a:t>Семья</a:t>
            </a:r>
            <a:endParaRPr b="0" lang="en-US" sz="7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– </a:t>
            </a: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это то, что делим на всех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сем понемножку и в слезы, и  в сме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Взлет и падение, радость, печал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Times New Roman"/>
              </a:rPr>
              <a:t>Дружбу и ссоры, молчание, печ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3" descr="55200370.jpg"/>
          <p:cNvPicPr/>
          <p:nvPr/>
        </p:nvPicPr>
        <p:blipFill>
          <a:blip r:embed="rId1"/>
          <a:stretch/>
        </p:blipFill>
        <p:spPr>
          <a:xfrm>
            <a:off x="5248440" y="347760"/>
            <a:ext cx="3305160" cy="297504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   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У каждого человека должен быть свой дом,        и не просто крыша над голово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     </a:t>
            </a: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его любят и ждут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где понимают и принимаю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таким, какой он есть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b3bdd"/>
                </a:solidFill>
                <a:latin typeface="Times New Roman"/>
              </a:rPr>
              <a:t>место, где его семь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4" descr="55344822.jpg"/>
          <p:cNvPicPr/>
          <p:nvPr/>
        </p:nvPicPr>
        <p:blipFill>
          <a:blip r:embed="rId1"/>
          <a:stretch/>
        </p:blipFill>
        <p:spPr>
          <a:xfrm>
            <a:off x="176040" y="2451240"/>
            <a:ext cx="2975040" cy="3840120"/>
          </a:xfrm>
          <a:prstGeom prst="rect">
            <a:avLst/>
          </a:prstGeom>
          <a:ln w="0">
            <a:noFill/>
          </a:ln>
        </p:spPr>
      </p:pic>
    </p:spTree>
  </p:cSld>
  <p:transition advTm="5000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0" lang="ru-RU" sz="4900" spc="-1" strike="noStrike">
                <a:solidFill>
                  <a:srgbClr val="4f271c"/>
                </a:solidFill>
                <a:latin typeface="Arial"/>
              </a:rPr>
              <a:t>А родные стены строятся на:</a:t>
            </a:r>
            <a:br>
              <a:rPr sz="4900"/>
            </a:br>
            <a:endParaRPr b="0" lang="en-US" sz="49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928800" y="193032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2643120" y="1930320"/>
            <a:ext cx="171468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2643120" y="2502000"/>
            <a:ext cx="235764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жлив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928800" y="2502000"/>
            <a:ext cx="1714320" cy="5205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ро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7"/>
          <p:cNvSpPr/>
          <p:nvPr/>
        </p:nvSpPr>
        <p:spPr>
          <a:xfrm>
            <a:off x="2643120" y="3073680"/>
            <a:ext cx="164304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ж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8"/>
          <p:cNvSpPr/>
          <p:nvPr/>
        </p:nvSpPr>
        <p:spPr>
          <a:xfrm>
            <a:off x="928800" y="3073680"/>
            <a:ext cx="17143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11"/>
          <p:cNvSpPr/>
          <p:nvPr/>
        </p:nvSpPr>
        <p:spPr>
          <a:xfrm>
            <a:off x="4286160" y="3073680"/>
            <a:ext cx="3357720" cy="581760"/>
          </a:xfrm>
          <a:prstGeom prst="rect">
            <a:avLst/>
          </a:prstGeom>
          <a:solidFill>
            <a:srgbClr val="b1392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заимопоним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ll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из стен растут дома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3227"/>
                </a:solidFill>
                <a:latin typeface="Times New Roman"/>
              </a:rPr>
              <a:t>А потом и моя маленькая стр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3" descr="semya11.jpg"/>
          <p:cNvPicPr/>
          <p:nvPr/>
        </p:nvPicPr>
        <p:blipFill>
          <a:blip r:embed="rId2"/>
          <a:stretch/>
        </p:blipFill>
        <p:spPr>
          <a:xfrm>
            <a:off x="3090960" y="3413160"/>
            <a:ext cx="4230720" cy="274968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52:56Z</dcterms:created>
  <dc:creator>Your User Name</dc:creator>
  <dc:description/>
  <dc:language>en-US</dc:language>
  <cp:lastModifiedBy>Your User Name</cp:lastModifiedBy>
  <dcterms:modified xsi:type="dcterms:W3CDTF">2008-11-17T22:53:04Z</dcterms:modified>
  <cp:revision>5</cp:revision>
  <dc:subject/>
  <dc:title>Слайд 1</dc:title>
</cp:coreProperties>
</file>